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D780-07BF-4798-817B-9E765E31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B647-43FA-4FBB-B996-A1950D43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BFD9-E075-4B9A-A7A7-B143DBAC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461D-383A-4457-8C65-4CDB2557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0F5B-7458-42AC-8EC8-72FFD8AE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9790-12CA-47F1-8526-9CF05E52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E142-6E48-4798-A2E7-CB2977EB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7C6F-7AF8-485E-BE56-22913D0A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3F5C-84CF-4D4B-8711-06631285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E7CE-D418-44B7-8F5A-E6767F7F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188A-8374-45DE-845B-EE8A7DDB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3A4-1654-4A53-9FBD-F628CC80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65BA-1A13-43F5-AC39-39AAD77F57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771640" y="2276640"/>
            <a:ext cx="3384000" cy="3528000"/>
            <a:chOff x="2771640" y="2276640"/>
            <a:chExt cx="3384000" cy="3528000"/>
          </a:xfrm>
        </p:grpSpPr>
        <p:sp>
          <p:nvSpPr>
            <p:cNvPr id="42" name=""/>
            <p:cNvSpPr/>
            <p:nvPr/>
          </p:nvSpPr>
          <p:spPr>
            <a:xfrm>
              <a:off x="2771640" y="2502360"/>
              <a:ext cx="338040" cy="34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5760" y="2730600"/>
              <a:ext cx="338040" cy="34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98080" y="2958840"/>
              <a:ext cx="338040" cy="34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577040" y="2276640"/>
              <a:ext cx="337680" cy="34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48080" y="3413520"/>
              <a:ext cx="337680" cy="34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97720" y="3870000"/>
              <a:ext cx="338040" cy="34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238640" y="3754440"/>
              <a:ext cx="338040" cy="34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85760" y="4096080"/>
              <a:ext cx="338040" cy="34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33600" y="4437360"/>
              <a:ext cx="338040" cy="34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38640" y="4323960"/>
              <a:ext cx="338040" cy="34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77040" y="4893840"/>
              <a:ext cx="338040" cy="34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817600" y="5463360"/>
              <a:ext cx="338040" cy="34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42" idx="6"/>
              <a:endCxn id="43" idx="1"/>
            </p:cNvCxnSpPr>
            <p:nvPr/>
          </p:nvCxnSpPr>
          <p:spPr>
            <a:xfrm>
              <a:off x="3109680" y="2673000"/>
              <a:ext cx="275760" cy="10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" name=""/>
            <p:cNvCxnSpPr>
              <a:stCxn id="43" idx="6"/>
              <a:endCxn id="44" idx="1"/>
            </p:cNvCxnSpPr>
            <p:nvPr/>
          </p:nvCxnSpPr>
          <p:spPr>
            <a:xfrm>
              <a:off x="3673800" y="2901240"/>
              <a:ext cx="273960" cy="10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6" name=""/>
            <p:cNvCxnSpPr>
              <a:stCxn id="44" idx="7"/>
              <a:endCxn id="45" idx="3"/>
            </p:cNvCxnSpPr>
            <p:nvPr/>
          </p:nvCxnSpPr>
          <p:spPr>
            <a:xfrm flipV="1">
              <a:off x="4186800" y="2568240"/>
              <a:ext cx="439920" cy="44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" name=""/>
            <p:cNvCxnSpPr>
              <a:stCxn id="44" idx="3"/>
              <a:endCxn id="46" idx="7"/>
            </p:cNvCxnSpPr>
            <p:nvPr/>
          </p:nvCxnSpPr>
          <p:spPr>
            <a:xfrm flipH="1">
              <a:off x="3736440" y="3250440"/>
              <a:ext cx="211320" cy="21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8" name=""/>
            <p:cNvCxnSpPr>
              <a:stCxn id="46" idx="3"/>
              <a:endCxn id="47" idx="7"/>
            </p:cNvCxnSpPr>
            <p:nvPr/>
          </p:nvCxnSpPr>
          <p:spPr>
            <a:xfrm flipH="1">
              <a:off x="3286440" y="3704400"/>
              <a:ext cx="211320" cy="21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" name=""/>
            <p:cNvCxnSpPr>
              <a:stCxn id="44" idx="5"/>
              <a:endCxn id="48" idx="0"/>
            </p:cNvCxnSpPr>
            <p:nvPr/>
          </p:nvCxnSpPr>
          <p:spPr>
            <a:xfrm>
              <a:off x="4186800" y="3250440"/>
              <a:ext cx="221400" cy="50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" name=""/>
            <p:cNvCxnSpPr>
              <a:stCxn id="48" idx="5"/>
              <a:endCxn id="51" idx="1"/>
            </p:cNvCxnSpPr>
            <p:nvPr/>
          </p:nvCxnSpPr>
          <p:spPr>
            <a:xfrm>
              <a:off x="4527360" y="4046040"/>
              <a:ext cx="660960" cy="327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" name=""/>
            <p:cNvCxnSpPr>
              <a:stCxn id="51" idx="5"/>
              <a:endCxn id="52" idx="0"/>
            </p:cNvCxnSpPr>
            <p:nvPr/>
          </p:nvCxnSpPr>
          <p:spPr>
            <a:xfrm>
              <a:off x="5427360" y="4615560"/>
              <a:ext cx="219240" cy="278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2" name=""/>
            <p:cNvCxnSpPr>
              <a:stCxn id="52" idx="5"/>
              <a:endCxn id="53" idx="0"/>
            </p:cNvCxnSpPr>
            <p:nvPr/>
          </p:nvCxnSpPr>
          <p:spPr>
            <a:xfrm>
              <a:off x="5765760" y="5185440"/>
              <a:ext cx="221400" cy="27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3" name=""/>
            <p:cNvCxnSpPr>
              <a:stCxn id="48" idx="3"/>
              <a:endCxn id="49" idx="7"/>
            </p:cNvCxnSpPr>
            <p:nvPr/>
          </p:nvCxnSpPr>
          <p:spPr>
            <a:xfrm flipH="1">
              <a:off x="4074480" y="4046040"/>
              <a:ext cx="213840" cy="10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4" name=""/>
            <p:cNvCxnSpPr>
              <a:stCxn id="49" idx="3"/>
              <a:endCxn id="50" idx="7"/>
            </p:cNvCxnSpPr>
            <p:nvPr/>
          </p:nvCxnSpPr>
          <p:spPr>
            <a:xfrm flipH="1">
              <a:off x="3622320" y="4387680"/>
              <a:ext cx="213120" cy="99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65" name=""/>
          <p:cNvSpPr/>
          <p:nvPr/>
        </p:nvSpPr>
        <p:spPr>
          <a:xfrm>
            <a:off x="450360" y="4968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6:45:31Z</dcterms:created>
  <dc:creator>Hugh Lewis</dc:creator>
  <dc:description/>
  <dc:language>en-US</dc:language>
  <cp:lastModifiedBy>Hugh Lewis</cp:lastModifiedBy>
  <dcterms:modified xsi:type="dcterms:W3CDTF">2009-01-31T14:49:03Z</dcterms:modified>
  <cp:revision>24</cp:revision>
  <dc:subject/>
  <dc:title>Slide 1</dc:title>
</cp:coreProperties>
</file>